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48FF2-4FE9-419B-9248-56C727A9E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83394-0A0B-4D95-B84F-93D96249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7E9A8-501A-491D-A255-26F112BAD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8FAA9-F73E-4F3F-B20A-527835E3F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18EC1-9E37-487A-BE86-8E695553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8CA79-0C84-4BF7-A550-6E432234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F335C-4E79-4CAE-8413-34922D005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DB598-4C4A-44B5-B5F0-BD09404B6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F25FB-CD29-400E-B460-EC0D2051A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B923-8450-4E63-BCDA-F162FF00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91AC-B86D-41A0-A95B-C1E0D7F57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87632-823F-4A5C-825D-386837F19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1818-DC8A-4F67-8F5C-593FC9F74F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Denise Tarlinton</cp:lastModifiedBy>
  <dcterms:modified xsi:type="dcterms:W3CDTF">2006-04-20T17:15:50Z</dcterms:modified>
  <cp:revision>87</cp:revision>
  <dc:subject/>
  <dc:title>BLOOM’s REVISED TAXONOMY</dc:title>
</cp:coreProperties>
</file>